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C72-FE74-45D3-B9A4-29D58A8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8D3-1A1B-4DBC-8D05-9377556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7EA-7FAD-4401-BD98-4F028E5C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70E-D001-49B9-9CBE-BCC5AF66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899-2AE6-459D-A9A8-A4723548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962-54D1-4815-8B64-B6FCB779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9E7-0FE6-49EA-B83E-C1A358D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41C-1B11-4225-9464-0F195E9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B92-3698-4443-A432-0E4ECFD7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B8C-8D3A-4DFC-A8CC-C9DC2F1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9A6-B7C5-4171-8A9D-FC62948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3A7-57BC-41B7-B66B-69ADD9B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AD9-F4CA-4242-8CF8-18EDE9EEB1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81080" y="1773000"/>
            <a:ext cx="7128000" cy="3112560"/>
            <a:chOff x="1081080" y="1773000"/>
            <a:chExt cx="7128000" cy="3112560"/>
          </a:xfrm>
        </p:grpSpPr>
        <p:sp>
          <p:nvSpPr>
            <p:cNvPr id="42" name=""/>
            <p:cNvSpPr/>
            <p:nvPr/>
          </p:nvSpPr>
          <p:spPr>
            <a:xfrm rot="16200000">
              <a:off x="3853440" y="3392640"/>
              <a:ext cx="100836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ite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3853800" y="1808640"/>
              <a:ext cx="100800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t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5293440" y="3392640"/>
              <a:ext cx="100836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n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3" idx="1"/>
            </p:cNvCxnSpPr>
            <p:nvPr/>
          </p:nvCxnSpPr>
          <p:spPr>
            <a:xfrm flipH="1" flipV="1">
              <a:off x="4357800" y="2781000"/>
              <a:ext cx="720" cy="57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 rot="16200000">
              <a:off x="4034160" y="294516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1405080" y="3609360"/>
              <a:ext cx="1584360" cy="505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 current 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top of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200000">
              <a:off x="241308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 cur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’s next 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"/>
            <p:cNvCxnSpPr>
              <a:stCxn id="47" idx="2"/>
              <a:endCxn id="48" idx="0"/>
            </p:cNvCxnSpPr>
            <p:nvPr/>
          </p:nvCxnSpPr>
          <p:spPr>
            <a:xfrm flipV="1">
              <a:off x="2449800" y="3862080"/>
              <a:ext cx="50400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8" idx="2"/>
              <a:endCxn id="42" idx="0"/>
            </p:cNvCxnSpPr>
            <p:nvPr/>
          </p:nvCxnSpPr>
          <p:spPr>
            <a:xfrm flipV="1">
              <a:off x="3457800" y="3861720"/>
              <a:ext cx="43236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2" idx="2"/>
              <a:endCxn id="44" idx="0"/>
            </p:cNvCxnSpPr>
            <p:nvPr/>
          </p:nvCxnSpPr>
          <p:spPr>
            <a:xfrm>
              <a:off x="4826160" y="3861720"/>
              <a:ext cx="504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 rot="16200000">
              <a:off x="4847760" y="3549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5365080" y="2097360"/>
              <a:ext cx="863640" cy="3603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4" idx="3"/>
              <a:endCxn id="53" idx="1"/>
            </p:cNvCxnSpPr>
            <p:nvPr/>
          </p:nvCxnSpPr>
          <p:spPr>
            <a:xfrm flipH="1" flipV="1">
              <a:off x="5797080" y="2709360"/>
              <a:ext cx="144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"/>
            <p:cNvSpPr/>
            <p:nvPr/>
          </p:nvSpPr>
          <p:spPr>
            <a:xfrm rot="16200000">
              <a:off x="5475600" y="292464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43" idx="2"/>
              <a:endCxn id="53" idx="0"/>
            </p:cNvCxnSpPr>
            <p:nvPr/>
          </p:nvCxnSpPr>
          <p:spPr>
            <a:xfrm>
              <a:off x="4826160" y="2277000"/>
              <a:ext cx="79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 rot="16200000">
              <a:off x="4826520" y="193068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541440" y="3609360"/>
              <a:ext cx="1584360" cy="505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sh source vert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to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8" idx="2"/>
              <a:endCxn id="47" idx="0"/>
            </p:cNvCxnSpPr>
            <p:nvPr/>
          </p:nvCxnSpPr>
          <p:spPr>
            <a:xfrm>
              <a:off x="1586160" y="3862440"/>
              <a:ext cx="3589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3" idx="0"/>
              <a:endCxn id="47" idx="3"/>
            </p:cNvCxnSpPr>
            <p:nvPr/>
          </p:nvCxnSpPr>
          <p:spPr>
            <a:xfrm flipV="1" rot="10800000">
              <a:off x="2197440" y="2276640"/>
              <a:ext cx="1692360" cy="79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 rot="16200000">
              <a:off x="3408120" y="19504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622944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sh child o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 of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716436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child as ‘visited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44" idx="2"/>
              <a:endCxn id="62" idx="0"/>
            </p:cNvCxnSpPr>
            <p:nvPr/>
          </p:nvCxnSpPr>
          <p:spPr>
            <a:xfrm>
              <a:off x="6266160" y="3861720"/>
              <a:ext cx="50400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2" idx="2"/>
              <a:endCxn id="63" idx="0"/>
            </p:cNvCxnSpPr>
            <p:nvPr/>
          </p:nvCxnSpPr>
          <p:spPr>
            <a:xfrm>
              <a:off x="7274160" y="3862080"/>
              <a:ext cx="4309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 rot="16200000">
              <a:off x="6287760" y="35348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3" idx="1"/>
              <a:endCxn id="48" idx="1"/>
            </p:cNvCxnSpPr>
            <p:nvPr/>
          </p:nvCxnSpPr>
          <p:spPr>
            <a:xfrm rot="16200000">
              <a:off x="5581440" y="2278440"/>
              <a:ext cx="360" cy="4751640"/>
            </a:xfrm>
            <a:prstGeom prst="bentConnector3">
              <a:avLst>
                <a:gd name="adj1" fmla="val 64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" name=""/>
          <p:cNvSpPr/>
          <p:nvPr/>
        </p:nvSpPr>
        <p:spPr>
          <a:xfrm rot="16200000">
            <a:off x="214920" y="5700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03Z</dcterms:modified>
  <cp:revision>24</cp:revision>
  <dc:subject/>
  <dc:title>Slide 1</dc:title>
</cp:coreProperties>
</file>